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8.wmf" ContentType="image/x-wmf"/>
  <Override PartName="/ppt/media/image10.gif" ContentType="image/gif"/>
  <Override PartName="/ppt/media/image12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7.png" ContentType="image/png"/>
  <Override PartName="/ppt/media/image11.gif" ContentType="image/gif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2.jpeg" ContentType="image/jpeg"/>
  <Override PartName="/ppt/media/image15.jpeg" ContentType="image/jpeg"/>
  <Override PartName="/ppt/media/image16.gif" ContentType="image/gif"/>
  <Override PartName="/ppt/media/image21.jpeg" ContentType="image/jpeg"/>
  <Override PartName="/ppt/media/image18.jpeg" ContentType="image/jpeg"/>
  <Override PartName="/ppt/media/image20.jpeg" ContentType="image/jpeg"/>
  <Override PartName="/ppt/media/image24.wmf" ContentType="image/x-wmf"/>
  <Override PartName="/ppt/media/image19.jpeg" ContentType="image/jpeg"/>
  <Override PartName="/ppt/media/image25.png" ContentType="image/png"/>
  <Override PartName="/ppt/media/image26.png" ContentType="image/png"/>
  <Override PartName="/ppt/media/image17.gif" ContentType="image/gif"/>
  <Override PartName="/ppt/media/image2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0DA-F142-4B85-B111-917B6A08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B83-A1C1-4958-BCE1-F65FAF7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98F-5733-43B7-86B1-2A0830FB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CFA-ED59-401D-AED0-668ABE0A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C715-4BAE-4C8D-BE97-B73CDD6F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E07D-1AF7-4A09-B89E-EC74531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D8BF-A9E0-47F8-B371-7DD98369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CFD5-4348-46F3-B340-3BD88C2B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D83D-A750-4C71-A508-5791F67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96DF-CF16-4CE7-B9CE-F404B1E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F625-1784-4BDA-9E90-2A69F55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866-BCAF-4DEC-96B2-42F5D5B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652-3629-4FC1-BA29-70686CD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05A3-DBE0-44FC-B4F7-837A09B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03E3-56B4-4E17-B76F-3166A253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D98C-4840-4358-984C-E9E0FAC6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F125-B695-49B0-AC30-3F03B510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DF39-46F2-4199-893B-DBC4DAE5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752D-0177-4CD2-AB20-05537C47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BB98-E39A-4D90-8193-B4A7A1E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B709-C344-42F5-BC81-5B72424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E468-1DDE-4349-9566-663FF94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362-2388-49BF-AB06-E78FD55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EFFD-04DD-4A74-8603-30585331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CABB-9878-4E34-9028-B355B52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28B2-B068-461F-AE46-EF0B0F1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BE57-3286-4AC7-BE05-D622049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A40C-A833-49AA-898C-6FE7E98A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B312-69DC-47CC-B684-A4C1DB2A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D57A-BD32-4E40-8FAC-BB7A998A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C9-F826-4D20-9364-D5F8E05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877-1136-459C-8BB6-015AC13E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C61-2D51-42C5-A3DE-291371D4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D96-3322-4BB4-A235-41A29754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B30-4B40-43C1-971C-8FEC439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A7E-4426-4A3F-8D8C-101FAE5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B53-F244-4258-AD62-603A208A3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BAF-D316-4424-A3AC-4320B72C5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76E0-15C9-4EC5-A84B-D3A27F914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4.wmf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89B5-B648-45A7-ABB8-A2AE80FF14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685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Что такое рефлекс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826920" y="1052640"/>
            <a:ext cx="8066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Обращение наз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Размышление о внутреннем состоя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Размышление о внутреннем состоянии – Самопозн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Самоанали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 Black"/>
              </a:rPr>
              <a:t>Склонность к анализу своих переживаний, размышлению о своем внутреннем состоя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25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75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65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375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BD46-7508-49D0-8CDE-5987AA20A8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484360" y="4149720"/>
            <a:ext cx="576360" cy="2305080"/>
          </a:xfrm>
          <a:prstGeom prst="upArrow">
            <a:avLst>
              <a:gd name="adj1" fmla="val 50000"/>
              <a:gd name="adj2" fmla="val 999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43280" y="4005360"/>
            <a:ext cx="2952720" cy="649080"/>
          </a:xfrm>
          <a:prstGeom prst="rightArrow">
            <a:avLst>
              <a:gd name="adj1" fmla="val 50000"/>
              <a:gd name="adj2" fmla="val 1137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5508720" y="2133720"/>
            <a:ext cx="576000" cy="230508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796000" y="1989000"/>
            <a:ext cx="2952720" cy="649440"/>
          </a:xfrm>
          <a:prstGeom prst="rightArrow">
            <a:avLst>
              <a:gd name="adj1" fmla="val 50000"/>
              <a:gd name="adj2" fmla="val 1136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1332000" y="5084640"/>
            <a:ext cx="780840" cy="12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780840" cy="12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7093080" y="836640"/>
            <a:ext cx="780840" cy="12571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12"/>
          <p:cNvSpPr txBox="1"/>
          <p:nvPr/>
        </p:nvSpPr>
        <p:spPr>
          <a:xfrm rot="20946600">
            <a:off x="-21960" y="477360"/>
            <a:ext cx="702000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Лесенка успеха"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0" y="6208560"/>
            <a:ext cx="2952720" cy="649440"/>
          </a:xfrm>
          <a:prstGeom prst="rightArrow">
            <a:avLst>
              <a:gd name="adj1" fmla="val 50000"/>
              <a:gd name="adj2" fmla="val 1136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1F9E-82E7-4C4B-AD04-96E8E410F7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vinog47"/>
          <p:cNvPicPr/>
          <p:nvPr/>
        </p:nvPicPr>
        <p:blipFill>
          <a:blip r:embed="rId1"/>
          <a:stretch/>
        </p:blipFill>
        <p:spPr>
          <a:xfrm>
            <a:off x="250920" y="907920"/>
            <a:ext cx="5832360" cy="5639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6"/>
          <p:cNvSpPr txBox="1"/>
          <p:nvPr/>
        </p:nvSpPr>
        <p:spPr>
          <a:xfrm>
            <a:off x="179280" y="189000"/>
            <a:ext cx="84250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рево 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7" descr="213"/>
          <p:cNvPicPr/>
          <p:nvPr/>
        </p:nvPicPr>
        <p:blipFill>
          <a:blip r:embed="rId2"/>
          <a:stretch/>
        </p:blipFill>
        <p:spPr>
          <a:xfrm>
            <a:off x="7093080" y="836640"/>
            <a:ext cx="876240" cy="1714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ist10"/>
          <p:cNvPicPr/>
          <p:nvPr/>
        </p:nvPicPr>
        <p:blipFill>
          <a:blip r:embed="rId3"/>
          <a:stretch/>
        </p:blipFill>
        <p:spPr>
          <a:xfrm>
            <a:off x="6300720" y="2637000"/>
            <a:ext cx="935280" cy="201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ist10 4556"/>
          <p:cNvPicPr/>
          <p:nvPr/>
        </p:nvPicPr>
        <p:blipFill>
          <a:blip r:embed="rId4"/>
          <a:stretch/>
        </p:blipFill>
        <p:spPr>
          <a:xfrm>
            <a:off x="7093080" y="4797360"/>
            <a:ext cx="87624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680C-A621-45A2-8FF5-5A19750A96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яблоня"/>
          <p:cNvPicPr/>
          <p:nvPr/>
        </p:nvPicPr>
        <p:blipFill>
          <a:blip r:embed="rId1"/>
          <a:srcRect l="0" t="8977" r="0" b="8977"/>
          <a:stretch/>
        </p:blipFill>
        <p:spPr>
          <a:xfrm>
            <a:off x="0" y="0"/>
            <a:ext cx="5907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MC900208234[1]"/>
          <p:cNvPicPr/>
          <p:nvPr/>
        </p:nvPicPr>
        <p:blipFill>
          <a:blip r:embed="rId2"/>
          <a:stretch/>
        </p:blipFill>
        <p:spPr>
          <a:xfrm>
            <a:off x="5581800" y="-531720"/>
            <a:ext cx="3562200" cy="388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C900436911[1]"/>
          <p:cNvPicPr/>
          <p:nvPr/>
        </p:nvPicPr>
        <p:blipFill>
          <a:blip r:embed="rId3"/>
          <a:stretch/>
        </p:blipFill>
        <p:spPr>
          <a:xfrm>
            <a:off x="3635280" y="162864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MC900441708[1]"/>
          <p:cNvPicPr/>
          <p:nvPr/>
        </p:nvPicPr>
        <p:blipFill>
          <a:blip r:embed="rId4"/>
          <a:stretch/>
        </p:blipFill>
        <p:spPr>
          <a:xfrm>
            <a:off x="5076720" y="105264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MC900441708[1]"/>
          <p:cNvPicPr/>
          <p:nvPr/>
        </p:nvPicPr>
        <p:blipFill>
          <a:blip r:embed="rId5"/>
          <a:stretch/>
        </p:blipFill>
        <p:spPr>
          <a:xfrm>
            <a:off x="1763640" y="620640"/>
            <a:ext cx="1370160" cy="137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MC900441708[1]"/>
          <p:cNvPicPr/>
          <p:nvPr/>
        </p:nvPicPr>
        <p:blipFill>
          <a:blip r:embed="rId6"/>
          <a:stretch/>
        </p:blipFill>
        <p:spPr>
          <a:xfrm>
            <a:off x="2411280" y="2637000"/>
            <a:ext cx="1519200" cy="1519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MC900208234[1]"/>
          <p:cNvPicPr/>
          <p:nvPr/>
        </p:nvPicPr>
        <p:blipFill>
          <a:blip r:embed="rId7"/>
          <a:stretch/>
        </p:blipFill>
        <p:spPr>
          <a:xfrm>
            <a:off x="539640" y="2133720"/>
            <a:ext cx="149544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MC900436911[1]"/>
          <p:cNvPicPr/>
          <p:nvPr/>
        </p:nvPicPr>
        <p:blipFill>
          <a:blip r:embed="rId8"/>
          <a:stretch/>
        </p:blipFill>
        <p:spPr>
          <a:xfrm>
            <a:off x="5435640" y="321300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301-EFC6-4EAA-9DA8-FA0750E0E7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img4"/>
          <p:cNvPicPr/>
          <p:nvPr/>
        </p:nvPicPr>
        <p:blipFill>
          <a:blip r:embed="rId1"/>
          <a:stretch/>
        </p:blipFill>
        <p:spPr>
          <a:xfrm>
            <a:off x="0" y="0"/>
            <a:ext cx="2581200" cy="3429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page144-content1-id315"/>
          <p:cNvPicPr/>
          <p:nvPr/>
        </p:nvPicPr>
        <p:blipFill>
          <a:blip r:embed="rId2"/>
          <a:stretch/>
        </p:blipFill>
        <p:spPr>
          <a:xfrm>
            <a:off x="2268360" y="549360"/>
            <a:ext cx="4465800" cy="472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img2"/>
          <p:cNvPicPr/>
          <p:nvPr/>
        </p:nvPicPr>
        <p:blipFill>
          <a:blip r:embed="rId3"/>
          <a:stretch/>
        </p:blipFill>
        <p:spPr>
          <a:xfrm>
            <a:off x="5398920" y="3768840"/>
            <a:ext cx="374508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5E4F-2115-438C-812E-994F525A87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468360" y="1628640"/>
            <a:ext cx="8007480" cy="4191120"/>
          </a:xfrm>
          <a:prstGeom prst="cloudCallout">
            <a:avLst>
              <a:gd name="adj1" fmla="val -20796"/>
              <a:gd name="adj2" fmla="val 703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3. Рефлексия содержания учебного материал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403280" y="115920"/>
            <a:ext cx="74516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Классификация приёмов рефлекс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5857-AF2E-4B57-A12F-05CF583F8F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1692360" y="1413000"/>
            <a:ext cx="669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годня на уроке я...</a:t>
            </a:r>
            <a:endParaRPr b="0" lang="en-US" sz="800" spc="1" strike="noStrike">
              <a:ln w="0">
                <a:noFill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РЕФЛЕКСИВНЫЙ ЭКР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11280" y="2205720"/>
            <a:ext cx="468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Сегодня я узна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выпо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нял задани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Я понял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, ч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Те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ерь я мог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по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чувствовал, ч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Я приобрё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503960" y="2205720"/>
            <a:ext cx="4839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У меня получи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смог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Я попробую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еня удивил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Урок дал мне для жизн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сскажу дома, чт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CD86-3074-4BE9-8F66-2687964B57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58920" y="1196280"/>
            <a:ext cx="8388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Здоровье.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Крепкое, душевное.</a:t>
            </a:r>
            <a:br>
              <a:rPr sz="3200"/>
            </a:b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Сохраняется, поддерживается, нарушается.</a:t>
            </a:r>
            <a:br>
              <a:rPr sz="28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Состояние любого живого организма.</a:t>
            </a:r>
            <a:br>
              <a:rPr sz="3200"/>
            </a:b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Самочувстви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085280" y="3573360"/>
            <a:ext cx="505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оровь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ое, индивидуально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станавливается, лечится, достигаетс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оровье дороже золот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612800" y="5012280"/>
            <a:ext cx="480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доровь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учная, популярна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нимается, выходит, показывается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грамма на Первом канале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лепередач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CFB-E8B7-4579-A004-67DA3B1719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115560"/>
            <a:ext cx="719604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Рефлексия содержания учеб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68360" y="1483920"/>
            <a:ext cx="561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Метод пяти паль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050920" y="2205000"/>
            <a:ext cx="75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зинец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ышление.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 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зымянны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изость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цели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едний)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тояние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уха, настроени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зательны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луга,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мощь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 (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льшой)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одрость,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здоровь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d23673451c4d"/>
          <p:cNvPicPr/>
          <p:nvPr/>
        </p:nvPicPr>
        <p:blipFill>
          <a:blip r:embed="rId1"/>
          <a:stretch/>
        </p:blipFill>
        <p:spPr>
          <a:xfrm>
            <a:off x="2843280" y="4406760"/>
            <a:ext cx="360036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628-480F-4739-AE55-06C8560DB9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Organization Chart 6"/>
          <p:cNvGrpSpPr/>
          <p:nvPr/>
        </p:nvGrpSpPr>
        <p:grpSpPr>
          <a:xfrm>
            <a:off x="1763640" y="476280"/>
            <a:ext cx="6840000" cy="3420720"/>
            <a:chOff x="1763640" y="476280"/>
            <a:chExt cx="6840000" cy="3420720"/>
          </a:xfrm>
        </p:grpSpPr>
        <p:cxnSp>
          <p:nvCxnSpPr>
            <p:cNvPr id="219" name="_s1028"/>
            <p:cNvCxnSpPr>
              <a:stCxn id="220" idx="1"/>
              <a:endCxn id="221" idx="2"/>
            </p:cNvCxnSpPr>
            <p:nvPr/>
          </p:nvCxnSpPr>
          <p:spPr>
            <a:xfrm rot="10800000">
              <a:off x="3814920" y="964440"/>
              <a:ext cx="684720" cy="268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1029"/>
            <p:cNvCxnSpPr>
              <a:stCxn id="223" idx="1"/>
              <a:endCxn id="221" idx="2"/>
            </p:cNvCxnSpPr>
            <p:nvPr/>
          </p:nvCxnSpPr>
          <p:spPr>
            <a:xfrm rot="10800000">
              <a:off x="3814920" y="964440"/>
              <a:ext cx="684720" cy="19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1030"/>
            <p:cNvCxnSpPr>
              <a:stCxn id="225" idx="1"/>
              <a:endCxn id="221" idx="2"/>
            </p:cNvCxnSpPr>
            <p:nvPr/>
          </p:nvCxnSpPr>
          <p:spPr>
            <a:xfrm rot="10800000">
              <a:off x="3814920" y="964440"/>
              <a:ext cx="684720" cy="1222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1031"/>
            <p:cNvCxnSpPr>
              <a:stCxn id="227" idx="1"/>
              <a:endCxn id="221" idx="2"/>
            </p:cNvCxnSpPr>
            <p:nvPr/>
          </p:nvCxnSpPr>
          <p:spPr>
            <a:xfrm rot="10800000">
              <a:off x="3814920" y="964440"/>
              <a:ext cx="684720" cy="48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1" name="_s1032"/>
            <p:cNvSpPr/>
            <p:nvPr/>
          </p:nvSpPr>
          <p:spPr>
            <a:xfrm>
              <a:off x="1763640" y="47628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Ц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В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Е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Т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О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Г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Р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r>
                <a:rPr b="1" i="1" lang="en-US" sz="3600" spc="-1" strike="noStrike">
                  <a:solidFill>
                    <a:srgbClr val="006600"/>
                  </a:solidFill>
                  <a:latin typeface="Arial"/>
                </a:rPr>
                <a:t>М</a:t>
              </a:r>
              <a:r>
                <a:rPr b="1" i="1" lang="en-US" sz="3600" spc="-1" strike="noStrike">
                  <a:solidFill>
                    <a:srgbClr val="cc0000"/>
                  </a:solidFill>
                  <a:latin typeface="Arial"/>
                </a:rPr>
                <a:t>М</a:t>
              </a:r>
              <a:r>
                <a:rPr b="1" i="1" lang="en-US" sz="3600" spc="-1" strike="noStrike">
                  <a:solidFill>
                    <a:srgbClr val="333399"/>
                  </a:solidFill>
                  <a:latin typeface="Arial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4499640" y="120960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актуаль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4499640" y="194292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новиз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1035"/>
            <p:cNvSpPr/>
            <p:nvPr/>
          </p:nvSpPr>
          <p:spPr>
            <a:xfrm>
              <a:off x="4499640" y="2676240"/>
              <a:ext cx="4104000" cy="48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полез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1036"/>
            <p:cNvSpPr/>
            <p:nvPr/>
          </p:nvSpPr>
          <p:spPr>
            <a:xfrm>
              <a:off x="4499640" y="3409920"/>
              <a:ext cx="4104000" cy="48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Arial"/>
                </a:rPr>
                <a:t>интере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28"/>
          <p:cNvSpPr/>
          <p:nvPr/>
        </p:nvSpPr>
        <p:spPr>
          <a:xfrm>
            <a:off x="755640" y="4508640"/>
            <a:ext cx="12952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755640" y="6021360"/>
            <a:ext cx="129528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755640" y="5229360"/>
            <a:ext cx="1295280" cy="504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31"/>
          <p:cNvSpPr txBox="1"/>
          <p:nvPr/>
        </p:nvSpPr>
        <p:spPr>
          <a:xfrm>
            <a:off x="2627280" y="450864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ока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32"/>
          <p:cNvSpPr txBox="1"/>
          <p:nvPr/>
        </p:nvSpPr>
        <p:spPr>
          <a:xfrm>
            <a:off x="2627280" y="522936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33"/>
          <p:cNvSpPr txBox="1"/>
          <p:nvPr/>
        </p:nvSpPr>
        <p:spPr>
          <a:xfrm>
            <a:off x="2700360" y="5950080"/>
            <a:ext cx="388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зкая оцен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D9D-F69F-4180-820A-580E5655DF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flash_prikoly_i_flash_multiki"/>
          <p:cNvPicPr/>
          <p:nvPr/>
        </p:nvPicPr>
        <p:blipFill>
          <a:blip r:embed="rId1"/>
          <a:stretch/>
        </p:blipFill>
        <p:spPr>
          <a:xfrm>
            <a:off x="1692360" y="404640"/>
            <a:ext cx="5327640" cy="403236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755640" y="378936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м   спасиб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9ED-9F54-48C4-BB29-31B916B6DB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Рефлексия в педагог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79640" y="1268280"/>
            <a:ext cx="5184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Самоанали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и ее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ц-мак"/>
          <p:cNvPicPr/>
          <p:nvPr/>
        </p:nvPicPr>
        <p:blipFill>
          <a:blip r:embed="rId1"/>
          <a:stretch/>
        </p:blipFill>
        <p:spPr>
          <a:xfrm>
            <a:off x="2340000" y="3201840"/>
            <a:ext cx="417528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5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5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45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377-038C-4927-9F40-D7691CFC9E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Классификация  рефлексии по цел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492360" y="4005360"/>
            <a:ext cx="5651640" cy="2232000"/>
          </a:xfrm>
          <a:prstGeom prst="cloudCallout">
            <a:avLst>
              <a:gd name="adj1" fmla="val -91069"/>
              <a:gd name="adj2" fmla="val 53060"/>
            </a:avLst>
          </a:prstGeom>
          <a:solidFill>
            <a:srgbClr val="33cc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3.Рефлексия содержания учебного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716360" y="981000"/>
            <a:ext cx="4427640" cy="2317680"/>
          </a:xfrm>
          <a:prstGeom prst="cloudCallout">
            <a:avLst>
              <a:gd name="adj1" fmla="val -126263"/>
              <a:gd name="adj2" fmla="val 150138"/>
            </a:avLst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2. Рефлексия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24000" y="1125360"/>
            <a:ext cx="4319280" cy="2606760"/>
          </a:xfrm>
          <a:prstGeom prst="cloudCallout">
            <a:avLst>
              <a:gd name="adj1" fmla="val -45259"/>
              <a:gd name="adj2" fmla="val 132643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ефлексия настро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эмо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осто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C324-12AC-46DC-995F-49CAE609F0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Классификация рефлекс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80040" y="2271600"/>
            <a:ext cx="5231160" cy="27194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флексия настроения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эмоциональ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UCK6"/>
          <p:cNvPicPr/>
          <p:nvPr/>
        </p:nvPicPr>
        <p:blipFill>
          <a:blip r:embed="rId1"/>
          <a:stretch/>
        </p:blipFill>
        <p:spPr>
          <a:xfrm>
            <a:off x="7008840" y="3141720"/>
            <a:ext cx="213516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2F7-B56B-4A93-9BF5-8C92E91347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37200" y="6781680"/>
            <a:ext cx="4064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95280" y="1413000"/>
            <a:ext cx="2879640" cy="273672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3564000" y="1413000"/>
            <a:ext cx="2663640" cy="249228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348000" y="2781360"/>
            <a:ext cx="2808360" cy="1871640"/>
          </a:xfrm>
          <a:prstGeom prst="cloudCallout">
            <a:avLst>
              <a:gd name="adj1" fmla="val -46106"/>
              <a:gd name="adj2" fmla="val 8745"/>
            </a:avLst>
          </a:prstGeom>
          <a:solidFill>
            <a:srgbClr val="66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MC900237936[1]"/>
          <p:cNvPicPr/>
          <p:nvPr/>
        </p:nvPicPr>
        <p:blipFill>
          <a:blip r:embed="rId3"/>
          <a:stretch/>
        </p:blipFill>
        <p:spPr>
          <a:xfrm>
            <a:off x="6300720" y="2492280"/>
            <a:ext cx="2063880" cy="26337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2"/>
          <p:cNvSpPr/>
          <p:nvPr/>
        </p:nvSpPr>
        <p:spPr>
          <a:xfrm>
            <a:off x="6227640" y="1484280"/>
            <a:ext cx="2808360" cy="1871640"/>
          </a:xfrm>
          <a:prstGeom prst="cloudCallout">
            <a:avLst>
              <a:gd name="adj1" fmla="val -46106"/>
              <a:gd name="adj2" fmla="val 8745"/>
            </a:avLst>
          </a:prstGeom>
          <a:solidFill>
            <a:srgbClr val="c0c0c0"/>
          </a:solidFill>
          <a:ln w="414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956720" y="1700280"/>
            <a:ext cx="1081080" cy="2520720"/>
          </a:xfrm>
          <a:prstGeom prst="lightningBolt">
            <a:avLst/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5" descr="img1"/>
          <p:cNvPicPr/>
          <p:nvPr/>
        </p:nvPicPr>
        <p:blipFill>
          <a:blip r:embed="rId4"/>
          <a:stretch/>
        </p:blipFill>
        <p:spPr>
          <a:xfrm>
            <a:off x="1403280" y="4149720"/>
            <a:ext cx="204012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7F1B-4095-43CF-9A95-F433D7A9C0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374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Веселый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ми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multyashki-2278"/>
          <p:cNvPicPr/>
          <p:nvPr/>
        </p:nvPicPr>
        <p:blipFill>
          <a:blip r:embed="rId1"/>
          <a:stretch/>
        </p:blipFill>
        <p:spPr>
          <a:xfrm>
            <a:off x="5651640" y="2492280"/>
            <a:ext cx="2957400" cy="4048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multyashki-2285"/>
          <p:cNvPicPr/>
          <p:nvPr/>
        </p:nvPicPr>
        <p:blipFill>
          <a:blip r:embed="rId2"/>
          <a:stretch/>
        </p:blipFill>
        <p:spPr>
          <a:xfrm>
            <a:off x="1547640" y="2276640"/>
            <a:ext cx="3660840" cy="43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5292720" y="1628640"/>
            <a:ext cx="367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Грустный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иш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95280" y="18900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0099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D4D-A2CF-49D9-B695-F8F51927C7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403280" y="260280"/>
            <a:ext cx="66960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ятник настро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Picture 9" descr="солнечный день"/>
          <p:cNvPicPr/>
          <p:nvPr/>
        </p:nvPicPr>
        <p:blipFill>
          <a:blip r:embed="rId1"/>
          <a:stretch/>
        </p:blipFill>
        <p:spPr>
          <a:xfrm>
            <a:off x="0" y="1484280"/>
            <a:ext cx="4273560" cy="496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дождливый день"/>
          <p:cNvPicPr/>
          <p:nvPr/>
        </p:nvPicPr>
        <p:blipFill>
          <a:blip r:embed="rId2"/>
          <a:stretch/>
        </p:blipFill>
        <p:spPr>
          <a:xfrm>
            <a:off x="5095800" y="1484280"/>
            <a:ext cx="4048200" cy="49690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1"/>
          <p:cNvSpPr/>
          <p:nvPr/>
        </p:nvSpPr>
        <p:spPr>
          <a:xfrm>
            <a:off x="4140360" y="1844640"/>
            <a:ext cx="1152360" cy="4392720"/>
          </a:xfrm>
          <a:prstGeom prst="upArrow">
            <a:avLst>
              <a:gd name="adj1" fmla="val 47935"/>
              <a:gd name="adj2" fmla="val 14686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427640" y="5661000"/>
            <a:ext cx="576000" cy="504720"/>
          </a:xfrm>
          <a:custGeom>
            <a:avLst/>
            <a:gdLst>
              <a:gd name="textAreaLeft" fmla="*/ 84240 w 576000"/>
              <a:gd name="textAreaRight" fmla="*/ 491760 w 576000"/>
              <a:gd name="textAreaTop" fmla="*/ 73800 h 504720"/>
              <a:gd name="textAreaBottom" fmla="*/ 4309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B69-031E-4790-9CA0-C81DA123DF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i-49 - копия"/>
          <p:cNvPicPr/>
          <p:nvPr/>
        </p:nvPicPr>
        <p:blipFill>
          <a:blip r:embed="rId1"/>
          <a:stretch/>
        </p:blipFill>
        <p:spPr>
          <a:xfrm>
            <a:off x="826920" y="1844640"/>
            <a:ext cx="3635640" cy="367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i-49 - копия - копия"/>
          <p:cNvPicPr/>
          <p:nvPr/>
        </p:nvPicPr>
        <p:blipFill>
          <a:blip r:embed="rId2"/>
          <a:stretch/>
        </p:blipFill>
        <p:spPr>
          <a:xfrm>
            <a:off x="4788000" y="1844640"/>
            <a:ext cx="3562200" cy="3672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58880" y="11592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Рефлексия настроения и эмоционального состоя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ураа"/>
          <p:cNvPicPr/>
          <p:nvPr/>
        </p:nvPicPr>
        <p:blipFill>
          <a:blip r:embed="rId3"/>
          <a:stretch/>
        </p:blipFill>
        <p:spPr>
          <a:xfrm>
            <a:off x="5940360" y="5013360"/>
            <a:ext cx="1728720" cy="173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группа поддержки"/>
          <p:cNvPicPr/>
          <p:nvPr/>
        </p:nvPicPr>
        <p:blipFill>
          <a:blip r:embed="rId4"/>
          <a:stretch/>
        </p:blipFill>
        <p:spPr>
          <a:xfrm>
            <a:off x="1619280" y="5300640"/>
            <a:ext cx="235584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D5AB-CC4A-4BC2-A55C-2A922DBD5F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826920" y="1916280"/>
            <a:ext cx="8007480" cy="4190760"/>
          </a:xfrm>
          <a:prstGeom prst="cloudCallout">
            <a:avLst>
              <a:gd name="adj1" fmla="val -24384"/>
              <a:gd name="adj2" fmla="val 6522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2. Рефлексия деятельн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Классификация приёмов рефлекс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50:49Z</dcterms:created>
  <dc:creator>user</dc:creator>
  <dc:description/>
  <dc:language>en-US</dc:language>
  <cp:lastModifiedBy>user</cp:lastModifiedBy>
  <dcterms:modified xsi:type="dcterms:W3CDTF">2015-10-18T14:32:52Z</dcterms:modified>
  <cp:revision>28</cp:revision>
  <dc:subject/>
  <dc:title>Слайд 1</dc:title>
</cp:coreProperties>
</file>